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52F-41CA-406E-9C51-6CFB8432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E19-EE26-4530-B75D-636BA874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E78-1278-4109-901D-01EEC8D8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658-3FA4-4BE9-8F7D-05E226C3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178-4A9F-4102-81E6-0F214B20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03B-D5D9-420A-BBCC-AE6391B0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7E9-F384-4195-9820-6C22EF3A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317-1525-4E87-B2E5-96FF418A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876-E4CD-4CAB-AE95-6507FF37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461-774D-4DD1-B4CD-13FD255A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2D7-3A08-427E-9237-610BA18C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F37-0F1F-485B-987B-8CCBA32D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04B8-D262-4AD4-B1E7-2FF831239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9:18:52Z</dcterms:created>
  <dc:creator>SUHAS</dc:creator>
  <dc:description/>
  <dc:language>en-US</dc:language>
  <cp:lastModifiedBy>SUHAS</cp:lastModifiedBy>
  <dcterms:modified xsi:type="dcterms:W3CDTF">2009-09-28T19:19:11Z</dcterms:modified>
  <cp:revision>1</cp:revision>
  <dc:subject/>
  <dc:title>Slide 1</dc:title>
</cp:coreProperties>
</file>